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1FE5-6756-49EC-8BD5-2DFCDDB65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BB84-23C0-4BA3-A8E0-68C13CDE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4E5D-E144-418F-8182-7B7460033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35DB-7DA1-41C9-8D50-2A4BA4E62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64F5-02C9-42E6-A377-FB2508AD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C1A9-50AF-4EFF-A87F-8EEB21C8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FEBD-386A-46F5-A7EB-16EDEC61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A5FE-38ED-4E69-8C15-8B7E25A6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14BD-BFB6-4A44-BC50-960FD7A1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5254-2FF2-4A2F-8D92-2596CB2B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6249-455F-4EB3-A5CB-BB80CE55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0F2E-1DC0-4249-9358-4FB77296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6DCA-E589-481B-AD31-7BF64D704D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002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doni MT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doni MT"/>
              </a:rPr>
              <a:t>Briggs Burle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3352680" y="13716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reek city-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1693800"/>
            <a:ext cx="914400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1828800" y="12952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udy of wisdom and the right way to 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0" y="1665360"/>
            <a:ext cx="914400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1828800" y="144792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rea of land nearly surrounded by w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1957320"/>
            <a:ext cx="914400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1981080" y="137160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r between Athens and Spart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1857240"/>
            <a:ext cx="9144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685800" y="121932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ind of government that is run by a small group of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1933560"/>
            <a:ext cx="91440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1828800" y="152388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heltered place along a coast l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1928880"/>
            <a:ext cx="91440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0" y="1746360"/>
            <a:ext cx="91440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0" y="1492200"/>
            <a:ext cx="91440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914400" y="12193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awmaking place where people voted on issues that helped their cit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1754280"/>
            <a:ext cx="914400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1219320" y="25909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erson who has certain rights and responsibilities to her or his countr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3154320"/>
            <a:ext cx="914400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1371600" y="1219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roup of people who lived apart from Greece but kept economic ties  with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1778040"/>
            <a:ext cx="91440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2666880" y="137160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orm of government where people vote to make deci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1974960"/>
            <a:ext cx="914400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1219320" y="121932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hear evidence and make decisions in a court of la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1614600"/>
            <a:ext cx="914400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914400" y="144792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ment headed by one ru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1778040"/>
            <a:ext cx="91440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poweruser</cp:lastModifiedBy>
  <dcterms:modified xsi:type="dcterms:W3CDTF">2012-03-02T17:15:14Z</dcterms:modified>
  <cp:revision>95</cp:revision>
  <dc:subject/>
  <dc:title>Ancient Greece</dc:title>
</cp:coreProperties>
</file>